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8.png" ContentType="image/png"/>
  <Override PartName="/ppt/media/image11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3DEB7-79AE-419E-AA57-F91379D35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57A4-6D48-4C01-8B4B-5D2399D4D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F3D3-0C87-4AEB-B20C-9FAFCBF4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DB0B-405F-489D-AF69-2F96D31E6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C7687-5FAA-49F3-B030-0A973C58A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15B926-0BCC-4596-9666-4A2468592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B4A187-06B2-43DE-9C68-6AB123ADB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48FB7-1B64-40F7-ADD2-5D0D15F27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0BECE6-1AD0-4F29-AD1C-E47B6E43B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34094-F94C-463C-A20A-D94162004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580E4-FE08-4BCE-8143-EEFEA1723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FA2D-0630-4A3F-B0D2-67D24F89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857D-DF77-4528-A3FC-AD0ABBB2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95D9F-9DA1-465A-B168-103EFC54C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EDABB-212F-4A6B-A82D-7FEB6668F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D5B7E-4D91-499B-845C-6486124869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45AB4-4BEB-41B7-AE52-98795AAAB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E6006-5EF0-431D-B7BB-1A7FB83FBE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601E-ADD6-4CA2-918F-0FE13D788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447D-D60E-4D78-92DD-730F0F00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31D38-C536-4ED9-9C69-457C4B388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3F0E-BC2B-46A6-BAA9-4D2F3F69A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06F5A-2C53-46BB-8DB2-737915E85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68D8-1510-4512-865B-2E093EC8F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prstGeom prst="pie">
              <a:avLst/>
            </a:pr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9C314-F062-4577-9343-17083BE7572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prstGeom prst="pie">
              <a:avLst/>
            </a:pr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prstGeom prst="pie">
              <a:avLst/>
            </a:pr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965E-D6A6-4046-8B4E-3D906E61458A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6"/>
          <p:cNvSpPr/>
          <p:nvPr/>
        </p:nvSpPr>
        <p:spPr>
          <a:xfrm>
            <a:off x="285840" y="2071800"/>
            <a:ext cx="850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 Box 7"/>
          <p:cNvSpPr/>
          <p:nvPr/>
        </p:nvSpPr>
        <p:spPr>
          <a:xfrm>
            <a:off x="2428920" y="4071960"/>
            <a:ext cx="6715080" cy="25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Шилова Юлия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чащаяся </a:t>
            </a:r>
            <a:r>
              <a:rPr b="1" i="1" lang="ru-RU" sz="2400" spc="-1" strike="noStrike">
                <a:solidFill>
                  <a:srgbClr val="ffffff"/>
                </a:solidFill>
                <a:latin typeface="Monotype Corsiva"/>
              </a:rPr>
              <a:t>10 И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 класса ГБОУ № 497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Невского района Санкт-Петербурга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Алексеева Любовь Николаевна </a:t>
            </a:r>
            <a:r>
              <a:rPr b="1" lang="ru-RU" sz="2400" spc="-1" strike="noStrike">
                <a:solidFill>
                  <a:srgbClr val="ffffff"/>
                </a:solidFill>
                <a:latin typeface="Monotype Corsiva"/>
              </a:rPr>
              <a:t>учитель истории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Прямая соединительная линия 6"/>
          <p:cNvSpPr/>
          <p:nvPr/>
        </p:nvSpPr>
        <p:spPr>
          <a:xfrm>
            <a:off x="1332000" y="3429000"/>
            <a:ext cx="6740280" cy="14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Rectangle 8"/>
          <p:cNvSpPr/>
          <p:nvPr/>
        </p:nvSpPr>
        <p:spPr>
          <a:xfrm>
            <a:off x="285840" y="2071800"/>
            <a:ext cx="85690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ff"/>
                </a:solidFill>
                <a:latin typeface="Monotype Corsiva"/>
              </a:rPr>
              <a:t>В памяти поколений</a:t>
            </a:r>
            <a:endParaRPr b="0" lang="en-US" sz="6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Text Box 10"/>
          <p:cNvSpPr/>
          <p:nvPr/>
        </p:nvSpPr>
        <p:spPr>
          <a:xfrm>
            <a:off x="0" y="189000"/>
            <a:ext cx="9325080" cy="121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Международная научно-исследовательская конференция школьнико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Monotype Corsiva"/>
              </a:rPr>
              <a:t>«Будущее – это мы!»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427280" y="476280"/>
            <a:ext cx="4978440" cy="540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«Чтоб снова                                                                   На земной планете                                                                              Не повторялось той  зимы,                                                       Нам нужно,                                                                Чтобы наши дети                                                                   Об этом помнили,                                                     Как мы!»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253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                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Tahoma"/>
              </a:rPr>
              <a:t>Юрий Воронов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4" name="Picture 4" descr="1979245"/>
          <p:cNvPicPr/>
          <p:nvPr/>
        </p:nvPicPr>
        <p:blipFill>
          <a:blip r:embed="rId1"/>
          <a:stretch/>
        </p:blipFill>
        <p:spPr>
          <a:xfrm>
            <a:off x="0" y="0"/>
            <a:ext cx="4500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5" descr="0_9d765_2100f420_orig"/>
          <p:cNvPicPr/>
          <p:nvPr/>
        </p:nvPicPr>
        <p:blipFill>
          <a:blip r:embed="rId1"/>
          <a:stretch/>
        </p:blipFill>
        <p:spPr>
          <a:xfrm>
            <a:off x="4705200" y="0"/>
            <a:ext cx="4438800" cy="68580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Зимой 1941-1942гг. Ударили морозы,  город занесло снегом, замерз водопровод, теперь воду можно было брать  только из Невы и Фонтанки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 конце 1941 года нормы хлеба снизили до 125 граммов для детей и иждивенцев. Не всем удалось пережить это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0" name="Picture 8" descr="Гвардия :: Боевые искусства"/>
          <p:cNvPicPr/>
          <p:nvPr/>
        </p:nvPicPr>
        <p:blipFill>
          <a:blip r:embed="rId1"/>
          <a:stretch/>
        </p:blipFill>
        <p:spPr>
          <a:xfrm>
            <a:off x="4500720" y="1844640"/>
            <a:ext cx="4643280" cy="348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236232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смотря на начавшуюся блокаду города, в конце октября 1941 года 60 тыс. школьников приступили к занятиям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3" name="Picture 7" descr="Школа"/>
          <p:cNvPicPr/>
          <p:nvPr/>
        </p:nvPicPr>
        <p:blipFill>
          <a:blip r:embed="rId1"/>
          <a:stretch/>
        </p:blipFill>
        <p:spPr>
          <a:xfrm>
            <a:off x="4500720" y="2417760"/>
            <a:ext cx="4643280" cy="30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4686120"/>
            <a:ext cx="8229600" cy="191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Руководство города доставило детям огромную радость, устроив во время школьных каникул ёлк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8" descr="Подборка ретрофотографий - Новогодний форум"/>
          <p:cNvPicPr/>
          <p:nvPr/>
        </p:nvPicPr>
        <p:blipFill>
          <a:blip r:embed="rId1"/>
          <a:stretch/>
        </p:blipFill>
        <p:spPr>
          <a:xfrm>
            <a:off x="324000" y="1459080"/>
            <a:ext cx="3887640" cy="28749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www.chitalnya.ru/upload3/905/a2aad817320067875119b89cbd41bd81.jpg"/>
          <p:cNvPicPr/>
          <p:nvPr/>
        </p:nvPicPr>
        <p:blipFill>
          <a:blip r:embed="rId2"/>
          <a:stretch/>
        </p:blipFill>
        <p:spPr>
          <a:xfrm>
            <a:off x="4552920" y="1414440"/>
            <a:ext cx="4584600" cy="307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95280" y="191628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сной 1942 года тысячи подростков встали к станкам, заменив погибших или ушедших на фронт взрослых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7" descr="Девочки"/>
          <p:cNvPicPr/>
          <p:nvPr/>
        </p:nvPicPr>
        <p:blipFill>
          <a:blip r:embed="rId1"/>
          <a:stretch/>
        </p:blipFill>
        <p:spPr>
          <a:xfrm>
            <a:off x="4648320" y="0"/>
            <a:ext cx="4495680" cy="337176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4" descr="http://wiki.ru/upload/iblock/683/68310df3a9cb05c767040660a6a096aa.jpg"/>
          <p:cNvPicPr/>
          <p:nvPr/>
        </p:nvPicPr>
        <p:blipFill>
          <a:blip r:embed="rId2"/>
          <a:stretch/>
        </p:blipFill>
        <p:spPr>
          <a:xfrm>
            <a:off x="4645080" y="3718080"/>
            <a:ext cx="4498920" cy="296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-428760" y="2214720"/>
            <a:ext cx="382752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есной 1942 года у школьников началась «огородная жизнь»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4" name="Picture 8" descr="Огород"/>
          <p:cNvPicPr/>
          <p:nvPr/>
        </p:nvPicPr>
        <p:blipFill>
          <a:blip r:embed="rId1"/>
          <a:stretch/>
        </p:blipFill>
        <p:spPr>
          <a:xfrm>
            <a:off x="3286080" y="2500200"/>
            <a:ext cx="2928960" cy="4168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0" descr="&quot;Миллионеры&quot; блокадного Ленинграда. (PavelCV)"/>
          <p:cNvPicPr/>
          <p:nvPr/>
        </p:nvPicPr>
        <p:blipFill>
          <a:blip r:embed="rId2"/>
          <a:stretch/>
        </p:blipFill>
        <p:spPr>
          <a:xfrm>
            <a:off x="6215040" y="0"/>
            <a:ext cx="2928960" cy="40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24000" y="1413000"/>
            <a:ext cx="403200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 блокадных днях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ы так и не узнали: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Меж юностью и детство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Где черта?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ам в сорок третье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ыдали медали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только в сорок пятом —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спорта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И в этом нет беды..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о взрослым людям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же прожившим многие года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друг страшно оттого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то мы не будем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Ни старше, ни взрослее,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Чем тогда..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480"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</a:rPr>
              <a:t>Юрий Воронов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8" name="Picture 7" descr="Награды"/>
          <p:cNvPicPr/>
          <p:nvPr/>
        </p:nvPicPr>
        <p:blipFill>
          <a:blip r:embed="rId1"/>
          <a:stretch/>
        </p:blipFill>
        <p:spPr>
          <a:xfrm>
            <a:off x="4427640" y="1413000"/>
            <a:ext cx="4495680" cy="404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17T08:55:04Z</dcterms:created>
  <dc:creator>Школа</dc:creator>
  <dc:description/>
  <dc:language>en-US</dc:language>
  <cp:lastModifiedBy>Acer</cp:lastModifiedBy>
  <dcterms:modified xsi:type="dcterms:W3CDTF">2017-03-02T20:35:40Z</dcterms:modified>
  <cp:revision>22</cp:revision>
  <dc:subject/>
  <dc:title>Слайд 1</dc:title>
</cp:coreProperties>
</file>